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4299-F9CC-479B-AFF1-2B328A00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1469-DB9A-48D3-8286-A60AAC1F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7419-4229-4219-AAB3-B9789192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5DEC-E328-46F7-892F-247B20B1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68DF-A34F-4C1B-A42D-64D29869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5396-F329-4CDA-9D88-791FED1E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A481-4587-4428-A11F-DE80486C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36CC-7A3C-4BAC-BC93-4E5210F4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6851-8630-4E7A-8A45-5D65EA90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AFAE-C320-4C86-BC53-D255F450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0E48-0A08-4495-BBF1-4BBB41DD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E689-6624-4429-86C7-7B6C708A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499E-BCBA-4D5F-B273-5D4DA3A46A3F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Unit 4 Outcome 1, Spreadsheet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Organisations and Information Needs, Ch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fficient softwar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se of naming ranges and Vlooku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VLOOKUP(E10,homeroom_totals,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ell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sert notes/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lative &amp; absolute cell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lectronic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fficient software func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heet refere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nditional formatt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rcRect l="12745" t="33819" r="34898" b="42633"/>
          <a:stretch/>
        </p:blipFill>
        <p:spPr>
          <a:xfrm>
            <a:off x="826920" y="3141720"/>
            <a:ext cx="74170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Goals of information systems</a:t>
            </a: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ypes of decisions: (revised) strategic, tactical and operational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trategic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trategic plan is a process for identifying long term goals within an 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Mission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stablishing a set of common goals that will help accomplish the organisations ai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bjectives are small achievable tasks undertaken to accomplish a big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stinguish b/w goals of non-profit &amp; for-profit organ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S goals: efficiency, improving effectiveness, improving decision-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fficienc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peed, Cost, Time &amp;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ffectiven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Quality of output, accuracy, presentation &amp; comprehens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mproved decision-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quires 3 factors, sufficient information, communication and 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Role of H/W &amp; S/W components of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preadsheet Software, formats &amp; conven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s right aligned in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-money values usually have two decimal places or n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-subtotals have a single line above the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-grand totals have a single or double line below the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-grand totals are in b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-graphs and charts must have titles identifying the name of the organisation and purpose of the graph or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-x and y axis must be labe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-limit the number of items represented in a chart to five or s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Reports: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centre a page on a sheet horizont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-briefly explain the purpose of the spreadsheet and identify the aut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-where cells require user input, clearly label what has to be entered, left side of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-list all equations used in a separate docu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preadsheets, Val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ange checking, use of IF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istence 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ata type checking, eg. integers, date, alignment of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stricted data entry, drop down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Validation alerts, pop up dialog b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Validation &amp;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Validation – is involved with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input;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sting is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; testing also checking electronic valid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s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unctionality, eg. test formulas &amp; functions, eg. test both upper &amp; lower boundaries of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ppropriate audience, difficult to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est for formats &amp; conven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ite space, fonts, consistent fonts &amp; sizes, background color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sability testing; must be user frien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asy accessible to user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yperlinks work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mount of scro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orksheets clearly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an users accidentally delete formulas or chance validation rules; input cells unpro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ccessibility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oes solution open at right w/she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ont sizes easy to read; limited use of red &amp; g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mmunication of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mportant information clear &amp; obvious; keep it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ifference b/w usability testing &amp; accessibility test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sability testing focuses on whether all buttons &amp; functions work correctl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ccessibility is focused on ease of use of spreadsheet and whether it conveys the mess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fficient software func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f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IF(D2&gt;=2000,"Gold",IF(D2&gt;=1000,"Silver",IF(D2&gt;=50,"Bronze",""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unt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COUNTIF(E2:E19,"Gold"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um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SUMIF(Fundraising_Homeroom,"7A",Fundraising_Amou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0T21:24:28Z</dcterms:created>
  <dc:creator>Kelvin Baird</dc:creator>
  <dc:description/>
  <dc:language>en-US</dc:language>
  <cp:lastModifiedBy>01421606</cp:lastModifiedBy>
  <dcterms:modified xsi:type="dcterms:W3CDTF">2009-06-18T03:38:01Z</dcterms:modified>
  <cp:revision>6</cp:revision>
  <dc:subject/>
  <dc:title>Unit 4 Outcome 1, Spreadsheet software</dc:title>
</cp:coreProperties>
</file>